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101-DDE0-43A5-80C8-7C84479B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07AC-AC3D-4C26-9EA1-C3DB30B0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3C19-ABD7-4875-9089-2EC961F6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2E7-1D74-492F-A6E2-889DE63E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D8C6-7308-4CAA-8711-AA1CD78D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49E-BC81-466C-A68C-02DA4463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CD7D-46C6-4D0D-855C-6DC62FDF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01C-311A-40CF-8520-6D9C1300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CC0-38CE-4742-A286-65987033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08E3-943E-4078-BB49-614F9A54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55D-AEDB-485C-9E63-BD78EF50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7F22-BD05-4DAF-A5F6-5CEE9447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E3EE-1A02-4F0F-AEE2-A4C75460D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antasymaps.files.wordpress.com/2008/05/crossection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antasymaps.files.wordpress.com/2008/05/map3d.gi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The Pyram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yramid at Saqqar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t for Pharaoh Djos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391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at Pyramid at Giz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 for Khufu/Cheope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80 – 2657 B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315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 Pyramid Cross-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752480"/>
            <a:ext cx="7315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 Pyramid Cross 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752480"/>
            <a:ext cx="8077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467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ley of the K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mple of Abu Simb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t for Pharaoh Ramses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3:04:33Z</dcterms:created>
  <dc:creator>jomccasland</dc:creator>
  <dc:description/>
  <dc:language>en-US</dc:language>
  <cp:lastModifiedBy>jomccasland</cp:lastModifiedBy>
  <dcterms:modified xsi:type="dcterms:W3CDTF">2009-10-19T13:50:31Z</dcterms:modified>
  <cp:revision>2</cp:revision>
  <dc:subject/>
  <dc:title>Building The Pyramids</dc:title>
</cp:coreProperties>
</file>